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7D6-1A97-4A2B-83B7-2A5790D7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426-7F42-43A0-9AAF-ABA87123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E61-C6BF-4A5E-A192-85FF7CE6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4D9-A478-4B07-AFBF-EABA3231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901-C73A-46B7-9822-93D23BBF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F39-60C5-48B9-A8E5-D625B037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066-C2A6-4A88-90D6-2425C98C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E4C-FE96-47D7-B61B-C660683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F43-3835-43D7-A74A-BB22334F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A82-7C3B-4B42-BD88-7D251E4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46D-9C0E-49B7-B695-89C302FB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213-3122-4988-BDB3-E2AE53BF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E41D-7D5F-44F3-936D-C17C23FED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image" Target="../media/image8.gif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image" Target="../media/image8.gif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3429000"/>
            <a:ext cx="5638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uelle heure est-i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1276600">
            <a:off x="6324480" y="1218960"/>
            <a:ext cx="2419560" cy="1555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17620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90720" y="1295280"/>
            <a:ext cx="1428480" cy="169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1532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20120" y="4038480"/>
            <a:ext cx="100944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7600" y="5791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2133720" y="594360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76201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huit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euf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9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i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8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onze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1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ouze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mid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7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minu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9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treize heure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une he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81080"/>
            <a:ext cx="4267440" cy="1447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1337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1337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419720"/>
            <a:ext cx="426744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6483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57200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3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2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quatorze heure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4267440" cy="1447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1337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21337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4419720"/>
            <a:ext cx="4267440" cy="1447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4648320"/>
            <a:ext cx="38102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57200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4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059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6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 cinq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1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28800" y="3429000"/>
            <a:ext cx="5638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uelle heure est-i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1276600">
            <a:off x="6324480" y="1218960"/>
            <a:ext cx="2419560" cy="1555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17620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990720" y="1295280"/>
            <a:ext cx="1428480" cy="169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81532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620120" y="4038480"/>
            <a:ext cx="100944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5791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133720" y="594360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76201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euf heures d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: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60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huit heures quinze.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huit heures et qu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8: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5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six heures ving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:2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6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cinq heures vingt-cinq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:2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60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onze heures trente.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onze heures et de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1:3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90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sept heures trente-cinq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huit heures moins vingt-cinq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:3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270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dix heures quarant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onze heures moins ving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: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4582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2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trois heures quarante-cinq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quatre heures moins le qu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: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900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quatre heures cinquant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est cinq heures moins di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:5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2296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300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ouze heures cinquante-cinq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une heure moins cinq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: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5345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7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une he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48720" y="380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0773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8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 douz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5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28800" y="3429000"/>
            <a:ext cx="5638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 rot="21276600">
            <a:off x="6724800" y="380520"/>
            <a:ext cx="2419200" cy="155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176200" cy="2590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62120" y="609480"/>
            <a:ext cx="1428480" cy="1695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7086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deu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238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9246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trois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380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0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quatre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438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1532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cinq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six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9246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sept he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895480"/>
            <a:ext cx="541044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3124080"/>
            <a:ext cx="4572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581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: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0:00:31Z</dcterms:created>
  <dc:creator>pdimick</dc:creator>
  <dc:description/>
  <dc:language>en-US</dc:language>
  <cp:lastModifiedBy>Phyllis</cp:lastModifiedBy>
  <dcterms:modified xsi:type="dcterms:W3CDTF">2009-11-01T11:14:47Z</dcterms:modified>
  <cp:revision>16</cp:revision>
  <dc:subject/>
  <dc:title>Quelle heure est-il?</dc:title>
</cp:coreProperties>
</file>